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A71-B9DD-4260-866C-68B42F63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5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 us review the major period of Bible history up to thi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am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he Philistine giant, Goliath,draws near, despises, defies, and curses him, v. 41-4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avid answers with his defiance, v. 45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They draw near to each other, and David slings a stone, hits Goliath in the forehead, kills him, and cuts off his head with Goliath's own sword, v. 48-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The Philistines flee, and are pursued by the Israelites, v. 52-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David brings the head of the Philistine to Jerusalem, v. 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Conversation between Saul and Abner concerning David, who is in consequence brought before Saul, v. 55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Jonathan and David commence a lasting friendship; and David acts prudently with respect to Saul, v. 1-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aul becomes jealous of David, on account of the esteem in which he is held in Israel; and, in his fury, endeavours to destroy him, v. 6-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avid is made captain over 1,000 men; and the people love and respect him, v. 13-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aul, in order to ensnare him, offers him his daughter in marriage, v. 17-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Saul requires 100 foreskins of the Philistines for dowry; hoping that, in endeavouring to procure them, David might be killed by the hands of the Philistines, v. 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David agrees to the conditions, fulfills them, and marries Michal, v. 26-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am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pleads for David before Saul, who is for the present reconciled, v. 1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defeats the Philistines; and Saul becomes again envious, and tries to kill him, but David escapes, v. 8-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ul sends men to David's house, to lie in wait for him; but Michal saves him by a letting out the window.  v. 11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e distress of having your life threatened by the most powerful man in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n trial that we lean hardest upon God, if our hearts are really in tune with serving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 analyzes a Psalm David wrote under this pressure-situa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David leaned upon God in this t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various terms he uses to describe G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 God of h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Lord our 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God of mer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be the way we feel about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get through all of our trials and tests as long as we know God in all of these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“more than conquerors” – Rom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arial view of the hometown of Sam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David went to find part of God’s answer to his prayer in the Psalm we just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draws us in closer to the specific area of Ram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dentified today as “er-Ram” five miles north of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orah, the prophetess, dwelt and judged Israel from this vaci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Samuel’s birthplace, home, and burial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form: Ramathaim-Zophim – 1 Sam.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seen a picture of the area, locate it on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just north-east of “Jebus” or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flees to Samuel at Ramah, v.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of it, sends messengers there several times to take him; but the Spirit of God coming upon them, they prophesy, v. 19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of this, goes after David himself, and falls under the same influence, v. 22-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F64-70F0-447C-8D49-206B931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74-1A11-4FA1-9A0F-50A0DC7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EFC-4D3B-487C-934F-AC932E47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307-EC5F-48FF-8F9A-0F13C286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24FB7-BC8D-4C1B-9073-2E60EB8D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4E976-2E4D-4ECF-81AC-B3F4DE2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8F44E-35E6-4527-B595-3C3FD52A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4A7A-C1BA-4BCE-AC2D-D7A05FB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C2C42-C8DE-42B1-A3FB-12216EA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C3824-44F4-40BB-BDA8-F2CCB8E0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4BF87-2BFF-4DA2-81EA-12BEA3E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901-EC79-49B7-9E8C-6CDE53A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F303-273E-420A-9BC7-280EB55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C839D-6CC5-4142-A9B2-64D8A8A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00A7-62B9-4B91-8B6D-19145164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B818D-E133-4438-8EEE-ACA58790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496E3-839E-4B83-A207-37FF5763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4FA-175F-440E-80C2-8C9910B1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3C2-D27B-4375-861D-F8D47A2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25F-22BE-410E-99CC-A7B84020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B3F-4021-4F53-B4D8-D5D534C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D3F-8C23-4CC1-976E-C1D86A7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0A2-A423-42A1-9B21-FC35409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E72-7D6E-460D-AE10-1E3994F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F31-D1B7-4F22-B488-6A288999D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48FA-F9D1-46CC-A7B9-EED1602C5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United King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8-19; Psa.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3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Major Time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81952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304776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3716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become a hero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defeat of the Philistine giant, Goli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 the aftermath of David’s heroic 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admires David – 1 Sa. 18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prospers in Saul’s service – 18: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has slain is 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his ten-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sent Saul into jealo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’s hatred for David grows – vs.10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ul’s Jealous Hatr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his murderous 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eyes David must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pleads for David’s life -19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l helps David escape – 8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stress of having his life threatened, David writes down this prayer –Psalm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alm 59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salmist prays for deliverance from his enemies, whose desperate wickedness he describes, v. 1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ofesses strong confidence in God, v. 8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aks of the destruction of his enemies, v. 11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aises God for benefits already received; and determines to trust in Him, v. 16-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590920" y="38088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avid Goes to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048120" y="22860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dern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733920" y="228600"/>
            <a:ext cx="172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ma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343400" y="990720"/>
            <a:ext cx="76320" cy="3962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vid Finds God’s Prot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scientious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ompany of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od’s power to turn things around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.19: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08:52Z</dcterms:created>
  <dc:creator>Terry W. Benton</dc:creator>
  <dc:description/>
  <dc:language>en-US</dc:language>
  <cp:lastModifiedBy>Terry Benton</cp:lastModifiedBy>
  <dcterms:modified xsi:type="dcterms:W3CDTF">2005-04-12T18:33:34Z</dcterms:modified>
  <cp:revision>2</cp:revision>
  <dc:subject/>
  <dc:title>The United Kingdom</dc:title>
</cp:coreProperties>
</file>